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892-CC65-4659-86CD-D9C42BC4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E5A-4B7F-440C-835C-E903F4D1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5E2-6191-4CB1-B3DB-B06E3E5F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B8FD-D598-4360-900D-CA17D74B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9783-02A9-4EF5-A372-4C5F3C20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3EF-71CF-479D-BAEA-CC6DA862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231B-1591-4D56-992D-69AE990C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E8F-165A-4DB3-A466-082BDC21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DA1-A02F-4CAD-B28F-CE23832D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9A53-6C91-4459-9478-DCF63E46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243-5A44-42B1-8D61-70F9638A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CCB-5696-48E3-A676-1CF01126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EB76-C1BD-4D85-B597-2B31DCB4EDB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93560"/>
            <a:ext cx="9102600" cy="5934600"/>
            <a:chOff x="0" y="493560"/>
            <a:chExt cx="9102600" cy="5934600"/>
          </a:xfrm>
        </p:grpSpPr>
        <p:grpSp>
          <p:nvGrpSpPr>
            <p:cNvPr id="42" name=""/>
            <p:cNvGrpSpPr/>
            <p:nvPr/>
          </p:nvGrpSpPr>
          <p:grpSpPr>
            <a:xfrm>
              <a:off x="0" y="1316160"/>
              <a:ext cx="9102600" cy="3147480"/>
              <a:chOff x="0" y="1316160"/>
              <a:chExt cx="9102600" cy="3147480"/>
            </a:xfrm>
          </p:grpSpPr>
          <p:sp>
            <p:nvSpPr>
              <p:cNvPr id="43" name=""/>
              <p:cNvSpPr/>
              <p:nvPr/>
            </p:nvSpPr>
            <p:spPr>
              <a:xfrm flipV="1">
                <a:off x="4592520" y="2052720"/>
                <a:ext cx="0" cy="16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V="1">
                <a:off x="4487760" y="2064960"/>
                <a:ext cx="0" cy="16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1920" y="3697200"/>
                <a:ext cx="901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646440" y="1316160"/>
                <a:ext cx="1833480" cy="4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JAL ESPESAD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(arena + lam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4268880" y="1911240"/>
                <a:ext cx="560160" cy="227160"/>
                <a:chOff x="4268880" y="1911240"/>
                <a:chExt cx="560160" cy="2271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359240" y="1911240"/>
                  <a:ext cx="371520" cy="5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flipV="1">
                  <a:off x="4484880" y="1963440"/>
                  <a:ext cx="12852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H="1" flipV="1">
                  <a:off x="4466880" y="1963440"/>
                  <a:ext cx="12852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H="1">
                  <a:off x="4268880" y="1943280"/>
                  <a:ext cx="79200" cy="1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734000" y="1935000"/>
                  <a:ext cx="95040" cy="19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8462880" y="3562200"/>
                <a:ext cx="373320" cy="141480"/>
                <a:chOff x="8462880" y="3562200"/>
                <a:chExt cx="373320" cy="1414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8651880" y="3602160"/>
                  <a:ext cx="0" cy="33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8651880" y="3651120"/>
                  <a:ext cx="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8559720" y="3562200"/>
                  <a:ext cx="17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469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128" y="0"/>
                      </a:move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H="1">
                  <a:off x="866952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861840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flipH="1">
                  <a:off x="856620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H="1">
                  <a:off x="8513280" y="3695760"/>
                  <a:ext cx="2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H="1">
                  <a:off x="8469360" y="369576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72172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77248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 flipV="1">
                  <a:off x="8829720" y="3695760"/>
                  <a:ext cx="648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462880" y="3695760"/>
                  <a:ext cx="648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469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8469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485200" y="3664080"/>
                  <a:ext cx="34920" cy="1908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583480" y="365904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48"/>
                      </a:moveTo>
                      <a:lnTo>
                        <a:pt x="48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32" y="48"/>
                      </a:lnTo>
                      <a:lnTo>
                        <a:pt x="40" y="48"/>
                      </a:lnTo>
                      <a:lnTo>
                        <a:pt x="48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531280" y="359100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56" y="0"/>
                      </a:moveTo>
                      <a:lnTo>
                        <a:pt x="64" y="16"/>
                      </a:lnTo>
                      <a:lnTo>
                        <a:pt x="72" y="32"/>
                      </a:lnTo>
                      <a:lnTo>
                        <a:pt x="72" y="48"/>
                      </a:lnTo>
                      <a:lnTo>
                        <a:pt x="64" y="64"/>
                      </a:lnTo>
                      <a:lnTo>
                        <a:pt x="56" y="72"/>
                      </a:lnTo>
                      <a:lnTo>
                        <a:pt x="48" y="80"/>
                      </a:lnTo>
                      <a:lnTo>
                        <a:pt x="32" y="80"/>
                      </a:lnTo>
                      <a:lnTo>
                        <a:pt x="24" y="72"/>
                      </a:lnTo>
                      <a:lnTo>
                        <a:pt x="16" y="64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48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566200" y="364320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588520" y="3614760"/>
                  <a:ext cx="2376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77360" y="356724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623440" y="356220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40" y="24"/>
                      </a:move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0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40" y="32"/>
                      </a:lnTo>
                      <a:lnTo>
                        <a:pt x="4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629560" y="367200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8" y="32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583480" y="3583080"/>
                  <a:ext cx="2880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583480" y="3583080"/>
                  <a:ext cx="2880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508960" y="363528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526600" y="367200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64" h="32">
                      <a:moveTo>
                        <a:pt x="64" y="16"/>
                      </a:moveTo>
                      <a:lnTo>
                        <a:pt x="64" y="16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64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58360" y="3614760"/>
                  <a:ext cx="21960" cy="12600"/>
                </a:xfrm>
                <a:custGeom>
                  <a:avLst/>
                  <a:gdLst/>
                  <a:ahLst/>
                  <a:rect l="l" t="t" r="r" b="b"/>
                  <a:pathLst>
                    <a:path w="33" h="24">
                      <a:moveTo>
                        <a:pt x="33" y="8"/>
                      </a:moveTo>
                      <a:lnTo>
                        <a:pt x="33" y="16"/>
                      </a:lnTo>
                      <a:lnTo>
                        <a:pt x="25" y="24"/>
                      </a:lnTo>
                      <a:lnTo>
                        <a:pt x="17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33" y="8"/>
                      </a:lnTo>
                      <a:lnTo>
                        <a:pt x="33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778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778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721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8721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750160" y="363852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32" y="16"/>
                      </a:move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715240" y="3635280"/>
                  <a:ext cx="2412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721720" y="3578400"/>
                  <a:ext cx="2232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675640" y="359424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40"/>
                      </a:lnTo>
                      <a:lnTo>
                        <a:pt x="8" y="32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715240" y="3598920"/>
                  <a:ext cx="2412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739360" y="36194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56" y="16"/>
                      </a:moveTo>
                      <a:lnTo>
                        <a:pt x="56" y="16"/>
                      </a:lnTo>
                      <a:lnTo>
                        <a:pt x="56" y="32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612280" y="3622680"/>
                  <a:ext cx="50760" cy="3636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16" y="0"/>
                      </a:move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8" y="64"/>
                      </a:lnTo>
                      <a:lnTo>
                        <a:pt x="16" y="64"/>
                      </a:lnTo>
                      <a:lnTo>
                        <a:pt x="24" y="72"/>
                      </a:lnTo>
                      <a:lnTo>
                        <a:pt x="40" y="72"/>
                      </a:lnTo>
                      <a:lnTo>
                        <a:pt x="48" y="64"/>
                      </a:lnTo>
                      <a:lnTo>
                        <a:pt x="64" y="48"/>
                      </a:lnTo>
                      <a:lnTo>
                        <a:pt x="64" y="40"/>
                      </a:lnTo>
                      <a:lnTo>
                        <a:pt x="64" y="40"/>
                      </a:lnTo>
                      <a:lnTo>
                        <a:pt x="72" y="24"/>
                      </a:lnTo>
                      <a:lnTo>
                        <a:pt x="72" y="24"/>
                      </a:lnTo>
                      <a:lnTo>
                        <a:pt x="64" y="16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629560" y="3591000"/>
                  <a:ext cx="33480" cy="2052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0" y="40"/>
                      </a:move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16" y="40"/>
                      </a:lnTo>
                      <a:lnTo>
                        <a:pt x="8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669520" y="3567240"/>
                  <a:ext cx="4104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24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67564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67564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8675640" y="3659040"/>
                  <a:ext cx="39600" cy="1620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0" y="2755800"/>
                <a:ext cx="1316160" cy="4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CAMI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PERIMETR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786800" y="2739960"/>
                <a:ext cx="1315800" cy="4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CAMI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3333cc"/>
                    </a:solidFill>
                    <a:latin typeface="Arial"/>
                  </a:rPr>
                  <a:t>PERIMETR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516880" y="3222720"/>
                <a:ext cx="128520" cy="30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479760" y="3943440"/>
                <a:ext cx="214632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3333cc"/>
                    </a:solidFill>
                    <a:latin typeface="Arial"/>
                  </a:rPr>
                  <a:t>RESIDUOS SÓLID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3333cc"/>
                    </a:solidFill>
                    <a:latin typeface="Arial"/>
                  </a:rPr>
                  <a:t>COMPLE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94320" y="2125800"/>
                <a:ext cx="3863880" cy="15699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86400" y="2370240"/>
                <a:ext cx="3551040" cy="132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94320" y="2720880"/>
                <a:ext cx="3078000" cy="9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4320" y="3048120"/>
                <a:ext cx="236232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602240" y="3336840"/>
                <a:ext cx="140976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624960" y="2127240"/>
                <a:ext cx="3863880" cy="156996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926640" y="2371680"/>
                <a:ext cx="3551400" cy="132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1402920" y="2722680"/>
                <a:ext cx="3078360" cy="9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117520" y="3049560"/>
                <a:ext cx="236196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3070080" y="3338640"/>
                <a:ext cx="1409400" cy="35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246240" y="3562200"/>
                <a:ext cx="372960" cy="141480"/>
                <a:chOff x="246240" y="3562200"/>
                <a:chExt cx="372960" cy="1414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34880" y="3602160"/>
                  <a:ext cx="0" cy="33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34880" y="3651120"/>
                  <a:ext cx="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080" y="3562200"/>
                  <a:ext cx="17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52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128" y="0"/>
                      </a:move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45252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401400" y="3695760"/>
                  <a:ext cx="21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34920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29700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252360" y="369576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4720" y="3695760"/>
                  <a:ext cx="22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55840" y="3695760"/>
                  <a:ext cx="2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 flipV="1">
                  <a:off x="612720" y="3695760"/>
                  <a:ext cx="648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246240" y="3695760"/>
                  <a:ext cx="612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52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52360" y="3562200"/>
                  <a:ext cx="360360" cy="133560"/>
                </a:xfrm>
                <a:custGeom>
                  <a:avLst/>
                  <a:gdLst/>
                  <a:ahLst/>
                  <a:rect l="l" t="t" r="r" b="b"/>
                  <a:pathLst>
                    <a:path w="505" h="264">
                      <a:moveTo>
                        <a:pt x="0" y="264"/>
                      </a:moveTo>
                      <a:lnTo>
                        <a:pt x="128" y="0"/>
                      </a:lnTo>
                      <a:lnTo>
                        <a:pt x="377" y="0"/>
                      </a:lnTo>
                      <a:lnTo>
                        <a:pt x="505" y="26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68200" y="3664080"/>
                  <a:ext cx="34920" cy="1908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66840" y="365904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48"/>
                      </a:moveTo>
                      <a:lnTo>
                        <a:pt x="48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32" y="48"/>
                      </a:lnTo>
                      <a:lnTo>
                        <a:pt x="40" y="48"/>
                      </a:lnTo>
                      <a:lnTo>
                        <a:pt x="48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14280" y="359100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56" y="0"/>
                      </a:moveTo>
                      <a:lnTo>
                        <a:pt x="64" y="16"/>
                      </a:lnTo>
                      <a:lnTo>
                        <a:pt x="72" y="32"/>
                      </a:lnTo>
                      <a:lnTo>
                        <a:pt x="72" y="48"/>
                      </a:lnTo>
                      <a:lnTo>
                        <a:pt x="64" y="64"/>
                      </a:lnTo>
                      <a:lnTo>
                        <a:pt x="56" y="72"/>
                      </a:lnTo>
                      <a:lnTo>
                        <a:pt x="48" y="80"/>
                      </a:lnTo>
                      <a:lnTo>
                        <a:pt x="32" y="80"/>
                      </a:lnTo>
                      <a:lnTo>
                        <a:pt x="24" y="72"/>
                      </a:lnTo>
                      <a:lnTo>
                        <a:pt x="16" y="64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8"/>
                      </a:lnTo>
                      <a:lnTo>
                        <a:pt x="32" y="8"/>
                      </a:lnTo>
                      <a:lnTo>
                        <a:pt x="48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9200" y="364320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71520" y="3614760"/>
                  <a:ext cx="2376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60360" y="356724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06440" y="356220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40" y="24"/>
                      </a:move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0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40" y="32"/>
                      </a:lnTo>
                      <a:lnTo>
                        <a:pt x="4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12920" y="367200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8" y="32"/>
                      </a:lnTo>
                      <a:lnTo>
                        <a:pt x="16" y="40"/>
                      </a:lnTo>
                      <a:lnTo>
                        <a:pt x="24" y="40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66840" y="3583080"/>
                  <a:ext cx="2844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66840" y="3583080"/>
                  <a:ext cx="28440" cy="1584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40" y="0"/>
                      </a:moveTo>
                      <a:lnTo>
                        <a:pt x="40" y="8"/>
                      </a:ln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24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91960" y="3635280"/>
                  <a:ext cx="3996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8" y="8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9600" y="3672000"/>
                  <a:ext cx="46080" cy="15840"/>
                </a:xfrm>
                <a:custGeom>
                  <a:avLst/>
                  <a:gdLst/>
                  <a:ahLst/>
                  <a:rect l="l" t="t" r="r" b="b"/>
                  <a:pathLst>
                    <a:path w="64" h="32">
                      <a:moveTo>
                        <a:pt x="64" y="16"/>
                      </a:moveTo>
                      <a:lnTo>
                        <a:pt x="64" y="16"/>
                      </a:lnTo>
                      <a:lnTo>
                        <a:pt x="64" y="0"/>
                      </a:lnTo>
                      <a:lnTo>
                        <a:pt x="56" y="0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32"/>
                      </a:lnTo>
                      <a:lnTo>
                        <a:pt x="32" y="32"/>
                      </a:lnTo>
                      <a:lnTo>
                        <a:pt x="40" y="32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64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41360" y="3614760"/>
                  <a:ext cx="22320" cy="12600"/>
                </a:xfrm>
                <a:custGeom>
                  <a:avLst/>
                  <a:gdLst/>
                  <a:ahLst/>
                  <a:rect l="l" t="t" r="r" b="b"/>
                  <a:pathLst>
                    <a:path w="33" h="24">
                      <a:moveTo>
                        <a:pt x="33" y="8"/>
                      </a:moveTo>
                      <a:lnTo>
                        <a:pt x="33" y="16"/>
                      </a:lnTo>
                      <a:lnTo>
                        <a:pt x="25" y="24"/>
                      </a:lnTo>
                      <a:lnTo>
                        <a:pt x="17" y="24"/>
                      </a:lnTo>
                      <a:lnTo>
                        <a:pt x="8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7" y="0"/>
                      </a:lnTo>
                      <a:lnTo>
                        <a:pt x="33" y="8"/>
                      </a:lnTo>
                      <a:lnTo>
                        <a:pt x="33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61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6196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8"/>
                      </a:move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40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0" y="40"/>
                      </a:lnTo>
                      <a:lnTo>
                        <a:pt x="48" y="32"/>
                      </a:lnTo>
                      <a:lnTo>
                        <a:pt x="48" y="24"/>
                      </a:lnTo>
                      <a:lnTo>
                        <a:pt x="48" y="16"/>
                      </a:lnTo>
                      <a:lnTo>
                        <a:pt x="40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4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4720" y="3666960"/>
                  <a:ext cx="34920" cy="241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8" y="16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24"/>
                      </a:lnTo>
                      <a:lnTo>
                        <a:pt x="48" y="32"/>
                      </a:lnTo>
                      <a:lnTo>
                        <a:pt x="40" y="40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33520" y="363852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32" y="16"/>
                      </a:moveTo>
                      <a:lnTo>
                        <a:pt x="32" y="24"/>
                      </a:lnTo>
                      <a:lnTo>
                        <a:pt x="24" y="32"/>
                      </a:lnTo>
                      <a:lnTo>
                        <a:pt x="16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98600" y="363528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24" y="24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04720" y="3578400"/>
                  <a:ext cx="22320" cy="12600"/>
                </a:xfrm>
                <a:custGeom>
                  <a:avLst/>
                  <a:gdLst/>
                  <a:ahLst/>
                  <a:rect l="l" t="t" r="r" b="b"/>
                  <a:pathLst>
                    <a:path w="32" h="24"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24" y="24"/>
                      </a:lnTo>
                      <a:lnTo>
                        <a:pt x="32" y="16"/>
                      </a:lnTo>
                      <a:lnTo>
                        <a:pt x="32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59000" y="35942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40" y="8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24" y="40"/>
                      </a:lnTo>
                      <a:lnTo>
                        <a:pt x="24" y="40"/>
                      </a:lnTo>
                      <a:lnTo>
                        <a:pt x="16" y="40"/>
                      </a:lnTo>
                      <a:lnTo>
                        <a:pt x="8" y="32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98600" y="3598920"/>
                  <a:ext cx="23760" cy="1584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16" y="32"/>
                      </a:lnTo>
                      <a:lnTo>
                        <a:pt x="16" y="32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32" y="8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2360" y="36194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56" y="16"/>
                      </a:moveTo>
                      <a:lnTo>
                        <a:pt x="56" y="16"/>
                      </a:lnTo>
                      <a:lnTo>
                        <a:pt x="56" y="32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95280" y="3622680"/>
                  <a:ext cx="50760" cy="3636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16" y="0"/>
                      </a:moveTo>
                      <a:lnTo>
                        <a:pt x="8" y="16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8" y="64"/>
                      </a:lnTo>
                      <a:lnTo>
                        <a:pt x="16" y="64"/>
                      </a:lnTo>
                      <a:lnTo>
                        <a:pt x="24" y="72"/>
                      </a:lnTo>
                      <a:lnTo>
                        <a:pt x="40" y="72"/>
                      </a:lnTo>
                      <a:lnTo>
                        <a:pt x="48" y="64"/>
                      </a:lnTo>
                      <a:lnTo>
                        <a:pt x="64" y="48"/>
                      </a:lnTo>
                      <a:lnTo>
                        <a:pt x="64" y="40"/>
                      </a:lnTo>
                      <a:lnTo>
                        <a:pt x="64" y="40"/>
                      </a:lnTo>
                      <a:lnTo>
                        <a:pt x="72" y="24"/>
                      </a:lnTo>
                      <a:lnTo>
                        <a:pt x="72" y="24"/>
                      </a:lnTo>
                      <a:lnTo>
                        <a:pt x="64" y="16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40" y="0"/>
                      </a:lnTo>
                      <a:lnTo>
                        <a:pt x="24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12920" y="3591000"/>
                  <a:ext cx="33120" cy="2052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0" y="40"/>
                      </a:move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48" y="16"/>
                      </a:lnTo>
                      <a:lnTo>
                        <a:pt x="48" y="16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16" y="40"/>
                      </a:lnTo>
                      <a:lnTo>
                        <a:pt x="8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52520" y="3567240"/>
                  <a:ext cx="41400" cy="1584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24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900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59000" y="36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8" y="0"/>
                      </a:moveTo>
                      <a:lnTo>
                        <a:pt x="48" y="8"/>
                      </a:lnTo>
                      <a:lnTo>
                        <a:pt x="48" y="16"/>
                      </a:lnTo>
                      <a:lnTo>
                        <a:pt x="40" y="32"/>
                      </a:lnTo>
                      <a:lnTo>
                        <a:pt x="24" y="48"/>
                      </a:lnTo>
                      <a:lnTo>
                        <a:pt x="8" y="40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59000" y="3659040"/>
                  <a:ext cx="39600" cy="16200"/>
                </a:xfrm>
                <a:custGeom>
                  <a:avLst/>
                  <a:gdLst/>
                  <a:ahLst/>
                  <a:rect l="l" t="t" r="r" b="b"/>
                  <a:pathLst>
                    <a:path w="56" h="32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6" y="8"/>
                      </a:ln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24"/>
                      </a:lnTo>
                      <a:lnTo>
                        <a:pt x="56" y="24"/>
                      </a:lnTo>
                      <a:lnTo>
                        <a:pt x="40" y="32"/>
                      </a:lnTo>
                      <a:lnTo>
                        <a:pt x="40" y="32"/>
                      </a:lnTo>
                      <a:lnTo>
                        <a:pt x="32" y="32"/>
                      </a:lnTo>
                      <a:lnTo>
                        <a:pt x="24" y="32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 flipV="1">
                <a:off x="4810320" y="3116160"/>
                <a:ext cx="46332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3740040" y="3153960"/>
                <a:ext cx="516240" cy="82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60080" y="3222720"/>
                <a:ext cx="128520" cy="30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6702480" y="3404520"/>
                <a:ext cx="273600" cy="276480"/>
                <a:chOff x="6702480" y="3404520"/>
                <a:chExt cx="273600" cy="2764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702480" y="3416400"/>
                  <a:ext cx="254160" cy="25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710040" y="34045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206800" y="3391560"/>
                <a:ext cx="273240" cy="276480"/>
                <a:chOff x="2206800" y="3391560"/>
                <a:chExt cx="273240" cy="276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206800" y="3403440"/>
                  <a:ext cx="253800" cy="25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214000" y="339156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924440" y="2680560"/>
                <a:ext cx="273600" cy="276480"/>
                <a:chOff x="4924440" y="2680560"/>
                <a:chExt cx="273600" cy="276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924440" y="2692440"/>
                  <a:ext cx="254160" cy="25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32000" y="268056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908520" y="2680560"/>
                <a:ext cx="273240" cy="276480"/>
                <a:chOff x="3908520" y="2680560"/>
                <a:chExt cx="273240" cy="276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908520" y="2692440"/>
                  <a:ext cx="253800" cy="253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15720" y="268056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961200" y="493560"/>
              <a:ext cx="74761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nexo No Norma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Lámina 1.   Método Constructivo : Concentración de Sólidos (TTD)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7800" y="6151680"/>
              <a:ext cx="218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33cc"/>
                  </a:solidFill>
                  <a:latin typeface="Arial"/>
                </a:rPr>
                <a:t>* Thickened Tailings Dispo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245040" y="4668840"/>
              <a:ext cx="3073320" cy="1491840"/>
              <a:chOff x="3245040" y="4668840"/>
              <a:chExt cx="3073320" cy="1491840"/>
            </a:xfrm>
          </p:grpSpPr>
          <p:sp>
            <p:nvSpPr>
              <p:cNvPr id="175" name=""/>
              <p:cNvSpPr/>
              <p:nvPr/>
            </p:nvSpPr>
            <p:spPr>
              <a:xfrm>
                <a:off x="3465000" y="4719600"/>
                <a:ext cx="200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Arial"/>
                  </a:rPr>
                  <a:t>LEY:     k      &lt;    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12600" y="485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54000" y="485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19560" y="4668840"/>
                <a:ext cx="2401920" cy="45720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45040" y="5600880"/>
                <a:ext cx="253800" cy="253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52240" y="5589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45040" y="5896080"/>
                <a:ext cx="253800" cy="253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252240" y="58842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2560" y="5321160"/>
                <a:ext cx="3025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k    =</a:t>
                </a: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  COEFICIENTE DE PERMEABILIDA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575160" y="5626080"/>
                <a:ext cx="869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= </a:t>
                </a: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MÁS FIN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74800" y="5946840"/>
                <a:ext cx="1209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Arial"/>
                  </a:rPr>
                  <a:t>= </a:t>
                </a:r>
                <a:r>
                  <a:rPr b="0" lang="en-US" sz="1200" spc="-1" strike="noStrike">
                    <a:solidFill>
                      <a:srgbClr val="3333cc"/>
                    </a:solidFill>
                    <a:latin typeface="Arial"/>
                  </a:rPr>
                  <a:t>MÁS GRUESO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237960" y="6531120"/>
            <a:ext cx="69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NOTA: También pueden transportarse estratégicamente los jales espesados por las laderas natu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2120" y="674640"/>
            <a:ext cx="5104080" cy="6189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95800" y="684360"/>
            <a:ext cx="488808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71440" y="855720"/>
            <a:ext cx="3900600" cy="5172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27760" y="692280"/>
            <a:ext cx="384336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681120"/>
            <a:ext cx="3970080" cy="5518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024520" y="870120"/>
            <a:ext cx="377496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47840" y="314280"/>
            <a:ext cx="3900240" cy="5218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03800" y="816120"/>
            <a:ext cx="348300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01:30:56Z</dcterms:created>
  <dc:creator>RAUL VICENTE OROZCO ESCOTO</dc:creator>
  <dc:description/>
  <dc:language>en-US</dc:language>
  <cp:lastModifiedBy>Monica Balsas</cp:lastModifiedBy>
  <cp:lastPrinted>1999-10-19T00:54:09Z</cp:lastPrinted>
  <dcterms:modified xsi:type="dcterms:W3CDTF">2003-04-23T23:53:51Z</dcterms:modified>
  <cp:revision>388</cp:revision>
  <dc:subject/>
  <dc:title>Sin título de diapositiva</dc:title>
</cp:coreProperties>
</file>